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73A-9016-4521-A60B-10EE7CA0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528-832D-4A78-8D0F-D1E27DA2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EED-6A9D-4894-B69D-5FDB8CCA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2E4-E6D5-4AEA-B8DE-456E2B28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E23-27A2-4858-8286-72CDA732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7C1-EAF4-4C44-BD68-5D82DD2B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D5E-7BF1-4560-8542-0089F4DB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1B8-AC0F-418B-891B-9FA4EA74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87B-AA76-45B4-A233-BA45886C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DFD-F567-46D9-B076-EC391769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7B7-7FD9-461F-BDD8-39A09DD6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C86-D908-4A0A-9355-03A7C1EF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F3C6-3F6C-48B3-A99C-143C3B510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singleparentbible.com.au/content/Image/Christine%2520Anu.jpg&amp;imgrefurl=http://www.singleparentbible.com.au/contents.php%3Fid%3D12%26p%3D10&amp;h=295&amp;w=305&amp;sz=83&amp;hl=en&amp;start=7&amp;um=1&amp;tbnid=8NUUkOxFlGqdaM:&amp;tbnh=112&amp;tbnw=116&amp;prev=/images%3Fq%3Dchristine%2Banu%26um%3D1%26hl%3Den%26safe%3Dstric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79280" y="5733720"/>
            <a:ext cx="452916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NIEL-AL-EDD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765000"/>
            <a:ext cx="48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HRISTINE AN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421000"/>
            <a:ext cx="25923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SHE WAS B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A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born in Cairns to     Torres Strait  islander in March 15 ,19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ne A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gan performing as a dancer and later went on to s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ing career started as a backup vocalist for songwriter Neil Murray's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5 Christine Anu won an ARIA Award for best female recording 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6 win the awar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est female art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43280" y="476280"/>
            <a:ext cx="338436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WAR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most famous song is My Island H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68360" y="549360"/>
            <a:ext cx="4535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HRISTINE ANU FAMOUS SO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27302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7T03:08:56Z</dcterms:created>
  <dc:creator>Reservoir District Secondary College</dc:creator>
  <dc:description/>
  <dc:language>en-US</dc:language>
  <cp:lastModifiedBy>Reservoir District Secondary College</cp:lastModifiedBy>
  <dcterms:modified xsi:type="dcterms:W3CDTF">2008-07-17T03:35:57Z</dcterms:modified>
  <cp:revision>2</cp:revision>
  <dc:subject/>
  <dc:title>Slide 1</dc:title>
</cp:coreProperties>
</file>